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A7D6-13E3-4E0E-9165-39F85742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A8C-1C53-4F35-8162-0A5C593E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FCD-F182-4B69-89A5-FCB724B8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9C9-4683-43A9-B450-09C62F76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7D4F-5BBA-4295-BBDE-F1BAD7E2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215D-D7D7-4948-9702-4701CF79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B1B9-4428-43BB-84E0-5A97C649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1C24-A540-4612-8DA3-7A39D851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BA21-A980-4F89-AB95-6E87C58B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B206-4799-4033-BD36-B64F08A8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4DF4-12D7-48E0-8EC6-E1C094F7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236-1D77-4196-8451-917E6E68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1129-457C-4061-9B5A-27619C2B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503D-A593-469E-BBDE-33E14F56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F21B-3B37-40C1-B4A4-957E562A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1DDB-5A7C-4B54-9573-14C6A4E6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6A33-C62F-4C39-9282-F2D76429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6EF6-7A51-486B-96F2-10F07194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19F-1743-43A1-A460-5C2471A8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30DD-0713-4703-95E5-59167CF7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FF58-A233-4581-BAD5-3EEC6314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2F7A-5A70-41D8-B17F-F21C5471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899-F0B1-490B-8378-DD4F8D9C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7991-B3A2-454C-AEF1-9642BC17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DC63-5D53-449A-84E2-84DCC056340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D603-B3B2-49A7-A3ED-4D7502062F1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s #1 and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rett Sutow, Katie Halbruner, Sam Bart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 #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0" y="1600200"/>
          <a:ext cx="9372600" cy="3630600"/>
        </p:xfrm>
        <a:graphic>
          <a:graphicData uri="http://schemas.openxmlformats.org/drawingml/2006/table">
            <a:tbl>
              <a:tblPr/>
              <a:tblGrid>
                <a:gridCol w="1341360"/>
                <a:gridCol w="1336680"/>
                <a:gridCol w="1339920"/>
                <a:gridCol w="1336680"/>
                <a:gridCol w="1339920"/>
                <a:gridCol w="1336680"/>
                <a:gridCol w="134136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H=2.1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.3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.5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.7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.9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.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.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Li=1.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Be=1.5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B=2.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C=2.5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=3.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=3.5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=4.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a=.9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Mg=1.2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l=1.5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i=1.8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=2.1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=2.5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Cl=3.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onic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onpola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onpola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olar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ola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ola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ola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 #1 Continue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85800" y="1219320"/>
          <a:ext cx="7772400" cy="42256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(H+)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(OH-)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(PH)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cid, Base, Neutral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1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ci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Bas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1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Bas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9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9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Bas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1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ci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utra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 #1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cids pick up hydroxide (OH-) and leave hydrogen (H+) behin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ases pick up hydrogen (H+) and leave hydroxide (OH-) behin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 #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H3 is pola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2 non pola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H3 completely dissociates in H2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2 partially dissociates in H2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02:27Z</dcterms:created>
  <dc:creator>xpstudent</dc:creator>
  <dc:description/>
  <dc:language>en-US</dc:language>
  <cp:lastModifiedBy>xpstudent</cp:lastModifiedBy>
  <dcterms:modified xsi:type="dcterms:W3CDTF">2010-09-22T14:38:32Z</dcterms:modified>
  <cp:revision>2</cp:revision>
  <dc:subject/>
  <dc:title>Questions #1 and 2</dc:title>
</cp:coreProperties>
</file>